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C3F5-A50F-4283-BE31-EEE67A84B5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CB70-05DF-4A14-8356-1F5ACF7FCA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AAFD-B61B-45A6-9EBD-1FC16410DA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A23C-71F3-474D-BCE9-79C8E3480E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29D6-8E2E-4043-85AE-9AFAEC761B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49D-5196-4E56-9192-0F55CB1D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F12-2208-4C4F-B6E0-C16F6404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CFB-91ED-42D1-8997-7490CA07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987-5BBD-40E4-840C-CA4C6FD8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2A5F-64F4-4B38-B895-4395ABDC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284A-07C0-40EC-852E-6D151B93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020B-5B43-4985-8F72-4FE93D1E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FCEA-42B0-4070-A4F8-FDD470CD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1D91-4D2C-43CE-8845-A5B27F6F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2407-B54C-4560-8D55-3CB3E528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28BB-DB03-4DE9-AB00-00F37DE0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5A8-2139-4FE5-B014-FBC2C022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D0DC-D91D-4623-A157-DE426985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A424-503B-4C7A-93D9-6E6E669C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6583-0FCC-4A5A-8E03-270579A0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EF07-9E30-45CB-A125-21146ADE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A7E1-253C-4221-94C1-A79F1A0F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B8C-BF6A-4F55-9BD0-E44A9A37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B68-B48C-4CFE-A930-4350EF42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305-B621-497E-BCA0-6E849D99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BDD-A8A0-46A9-9856-9F05A729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B22-FAA4-4A3B-9473-F433C6F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031-9C84-42B7-9768-D3A367D2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E33-DDF6-43E3-883C-68B57E2C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0AE8-CBB6-492D-8F8A-6BCD8923115F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16D3-ED8C-4EDB-9B8B-3B2B9CEFB07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9640" y="2276280"/>
            <a:ext cx="4373640" cy="67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Имидж – что это и с чем его едят?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56000" y="4149360"/>
            <a:ext cx="47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ссийские инженеры – какие они?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Дифференциация понятий «имидж» и «репутация»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Перцепция в межличностном общении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Структура имиджа</a:t>
            </a: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4000" y="177300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ссур Леонид Владими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31-03-1878 г. - 19-05-1920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учёный-машиновед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здал рациональную классификацию плоских шарнирных механизмов. Разработал методику образования плоских механизмов любой сложности методом последовательного наслоения кинематических цепей, получивших название «групп Ассур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5825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ганов Василий Ив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12-1899 г. - 27-12-197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учёный-кораблестроитель, главный конструктор первого в мире атомного ледокола «Ленин» и его дальнейшего развития – атомного ледокола «Арктика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 первый в мире атомный ледоко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112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мов Николай Иль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4-09-1902 г. - 24-11-1973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вертолеты “Ка”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иколай Ильич Камов — советский авиаконструктор, создатель вертолётов «Ка», доктор технических наук (1962). Герой Социалистического Труда (1972). Лауреат Государственной премии СССР (1972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72872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00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епобедимый Сергей Павл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3-09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Советский конструктор ракетного вооруж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Группой под его руководством создана первая в мире сверхзвуковая противотанковая управляемая ракета (ПТУР) «Штурм» и первый в мире двухканальный ПТРК «Хризантема»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617400" y="1052640"/>
            <a:ext cx="17226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578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алашников Михаил Тимофее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р.10-11-1919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Автомат Калашникова, 7,62-м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оме того был членом совета писателе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Илюшин, Туполев, (известные авиастроители) – имена, известные на весь ми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1898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такое культура?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1.Совокупность производственных, общественных и духовных достижений людей. История культуры. К. древних грек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2.Высокий уровень чего-н., высокое развитие, умение. К. производства. К. голоса (у певцов). Физическая к. (физ~).К. реч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3.Области человеческой деятельности, связанные с самовыражением человека, проявлением его субъективности (характера, компетентностей, навыков, умений и знаний)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600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Lucida Sans Unicode"/>
              </a:rPr>
              <a:t>Соотношение понятий</a:t>
            </a: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«имидж» и «репутация»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МИДЖ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Имидж 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(от англ. Image) в переводе означает образ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английском языке слово происходит от латинского imagio, производного от imitari (имитировать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В русском языке имидж воспринимается как образ чего-либо или кого-либо (целенаправленно сконструированный) и призванный оказать эмоционально-психологическое воздействие на целевую аудиторию в целях популяризации, рекламы и т.д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Репутац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 – это общее сложившееся мнение о качествах, достоинствах и недостатках организации (профессионала) в деловой сфере, которое определяет отношение к ней внешней среды и может приносить сверхнормативную прибыль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Итак,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деловая репутация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 – это </a:t>
            </a:r>
            <a:r>
              <a:rPr b="1" lang="ru-RU" sz="2400" spc="-1" strike="noStrike">
                <a:solidFill>
                  <a:srgbClr val="303030"/>
                </a:solidFill>
                <a:latin typeface="Century Gothic"/>
              </a:rPr>
              <a:t>мнение</a:t>
            </a: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Принципиальные отличи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полностью определяется прошлым, а не настоящим и будущим;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репутация распространяется в основном самостоятельно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 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2373480"/>
          <a:ext cx="8497800" cy="30715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«Русских невозможно победить, мы убедились в этом за сотни лет. Но русским можно привить лживые ценности, и тогда они победят сами себя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074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(Отто фон Бисмарк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первый канцле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Германской импер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И снова об имидже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Носителями имиджа могут быть люди, организации, товары, професс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-443160">
              <a:spcBef>
                <a:spcPts val="550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Более глубокая концептуальная характеристика имиджа содержит ряд уточнений: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1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результат типизации.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2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лемент символического мира, который с необходимостью создается в процессе типиз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3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фактор коммуника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4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результат борьбы определений и оценок, вырабатываемых получателем информации, композиция в умах воспринимающих лиц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443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      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5.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	</a:t>
            </a:r>
            <a:r>
              <a:rPr b="1" lang="ru-RU" sz="2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2200" spc="-1" strike="noStrike">
                <a:solidFill>
                  <a:srgbClr val="303030"/>
                </a:solidFill>
                <a:latin typeface="Century Gothic"/>
              </a:rPr>
              <a:t> – это впечатление, создаваемое на некотором уровне абстракции.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В рамках репутационного подхода </a:t>
            </a:r>
            <a:r>
              <a:rPr b="1" lang="ru-RU" sz="3200" spc="-1" strike="noStrike">
                <a:solidFill>
                  <a:srgbClr val="303030"/>
                </a:solidFill>
                <a:latin typeface="Century Gothic"/>
              </a:rPr>
              <a:t>имидж</a:t>
            </a:r>
            <a:r>
              <a:rPr b="0" lang="ru-RU" sz="3200" spc="-1" strike="noStrike">
                <a:solidFill>
                  <a:srgbClr val="303030"/>
                </a:solidFill>
                <a:latin typeface="Century Gothic"/>
              </a:rPr>
              <a:t> интерпретируется как вспомогательное средство – условие формирования и поддержания деловой репутации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Межличностной адаптации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даря правильно избранному имиджу можно быстро войти в конкретную социальную среду, привлечь к себе внимание, оперативно установить доброжелательные отношен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Высвечивания лучших личностно-деловых качеств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Благоприятный имидж даёт возможность зрительно представить наиболее привлекательные качества человека, позволяя соприкасающимся с ним людям познавать именно эти черты, вызывающие симпатию или доброе расположен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Затенения негативных личностных характеристик</a:t>
            </a:r>
            <a:r>
              <a:rPr b="0" i="1" lang="ru-RU" sz="2400" spc="-1" strike="noStrike">
                <a:solidFill>
                  <a:srgbClr val="7f7f7f"/>
                </a:solidFill>
                <a:latin typeface="Century Gothic"/>
              </a:rPr>
              <a:t>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средством макияжа, дизайна одежды, аксессуаров, причёски и т.д. можно отвлечь людей от тех недостатков, которыми обладает человек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Организация внимания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ривлекательный имидж невольно притягивает к себе людей, он импонирует им, а потому они психологически легче располагаются к тому, что он говорит или демонстрирует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Технологические функции имиджа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f7f7f"/>
                </a:solidFill>
                <a:latin typeface="Century Gothic"/>
              </a:rPr>
              <a:t>Преодоления возрастных рубежей. </a:t>
            </a: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скусно владея технологией самопрезентации, что конкретно проявляется в удачном выборе моделей поведения и исполнении различных ролей, можно комфортно себя чувствовать в общении с людьми разного социального положения и профессионального статуса, не сковывая себя «комплексом» собственного возраст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7f7f"/>
                </a:solidFill>
                <a:latin typeface="Century Gothic"/>
              </a:rPr>
              <a:t>Таким образом, имидж – это полиметрическое явление, функционал которого разнообразен. Главное его назначение – </a:t>
            </a:r>
            <a:r>
              <a:rPr b="1" lang="ru-RU" sz="3200" spc="-1" strike="noStrike">
                <a:solidFill>
                  <a:srgbClr val="7f7f7f"/>
                </a:solidFill>
                <a:latin typeface="Century Gothic"/>
              </a:rPr>
              <a:t>достичь эффекта личного притяжения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Что такое профессиональный имидж?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важная составная часть персонального имидж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Профессиональный имидж – образ отдельного человека, формирующийся в определенное время с определенным уровнем полноты (от общего впечатления до сложной структуры представлений) в глазах реципиент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030"/>
                </a:solidFill>
                <a:latin typeface="Century Gothic"/>
              </a:rPr>
              <a:t>То есть это образ отдельного человека как работника, впечатление о его деловых  и профессиональных качествах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ирование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целенаправленная деятельность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мейкер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специалист по созданию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убъекты имиджирования: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ципиенты или получатели – те, кто воспринимает имиджформирующую информацию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ндукторы, или отправители -  те, кто является источникм имиджформирующей информ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осители имиджа – те, относительно кого складывается имидж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Атрибуты, факторы и компоненты имиджа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неотъемлемое свойство чего-либо или кого-либо; </a:t>
            </a: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атрибу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его неотъемлемые составляющи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Фактор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это нечто, влияющее на имидж (образ личности формируется из восприятия одежды, голоса, речи ит.д.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Компонент имиджа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- некоторая характеристика носителя имиджа, которая воплощается в восприятии реципи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конце XIX – начале XX века российская система инженерного образования считалась одной из лучших в мире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оветском Союзе её традиции удалось адаптировать к плановой экономике и добиться больших успехов в освоении космоса, создании атомной и оборонной промышленност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 середине 80-х годов доля инженеров в общем объёме выпускаемых вузами специалистов составляла более 40 процент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Century Gothic"/>
              </a:rPr>
              <a:t>Имиджелогия</a:t>
            </a:r>
            <a:r>
              <a:rPr b="0" lang="ru-RU" sz="3200" spc="-1" strike="noStrike">
                <a:solidFill>
                  <a:srgbClr val="3f3f3f"/>
                </a:solidFill>
                <a:latin typeface="Century Gothic"/>
              </a:rPr>
              <a:t> – наука о стратегии, тактике и технологии создания позитивного имиджа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функционально-технологическому признаку выделяют  разновидности имиджа (корпоратвиного и персонального):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желаемый и воспринимаем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социо-ситуативный и постоянный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бобщенный, функциональный (по выполняемым функциям) и контекстный (по контексту деятельности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сзаемый и неосязаемый (осязаемый создается на основе знакомства с тем, что можно увидеть, услышать, потрогать и т.д.; неосязаемый формируется как реакция на осязаемое воздействие);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 характеру оценки: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положи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отрицательный,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3f3f"/>
                </a:solidFill>
                <a:latin typeface="Century Gothic"/>
              </a:rPr>
              <a:t>нейтральн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5897"/>
                </a:solidFill>
                <a:latin typeface="Palatino Linotype"/>
              </a:rPr>
              <a:t>РАЗНОВИДНОСТИ ИМИДЖА: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 группе персонального имиджа выделяют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амоимидж,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нешний имидж (или просто имидж) личн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труктура персонального имиджа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200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Что же такое «Я-концепция»?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Я-концепция – это совокупность всех представлений индивида о себе, сопряжённая с его отношением к себе или к отдельным своим качествам, это называют самооценкой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Р. Берн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7f7f"/>
                </a:solidFill>
                <a:latin typeface="Century Gothic"/>
              </a:rPr>
              <a:t>Самооценка отражает степень развития у человека чувства самоуважения, ощущения собственной ценности и позитивного отношения ко всему тому, что входит в сферу его «Я»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Давайте разберёмся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Из чего состоит «Я-концепция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происходит с личностью при работе над своей «Я-концепцией»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ак настроиться на достижение успеха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то даёт индивиду положительная «Я-концепция»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Факторы положительной я-концепции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твёрдая убеждённость в том, что вы импонируете другим людям,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уверенность в способности к тому или иному виду деятельности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чувство собственной значимости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составляющие «Я-концепции»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КОГНИТИВ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ОЦЕНОЧН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entury Gothic"/>
              </a:rPr>
              <a:t>ПОВЕДЕНЧЕСКАЯ СОСТАВЛЯЮЩАЯ «Я-КОНЦЕПЦИИ»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 модальности самоустановок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ое Я – установки, связанные с тем, как индивид воспринимает свои актуальные способности, роли, свой актуальный статус, то есть его представления о том, каков он на самом дел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кальное (социальное) Я – установки, связанные с представлениями индивида о том, как его видят другие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ое Я – установки, связанные с представлениями индивида о том, каким бы он хотел ста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Восприятие и понимание в процессе общения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Нартов Андре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8-03-1693 г. - 16-04-1756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механик и изобретатель, "личный токарь" Петра I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Токарно-винторезный станок с механизированным суппортом и набором сменных зубчатых колёс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152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54828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Восприят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формирование целостного образа на основе поведения и внешнего вида, а также понимание партнер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Century Gothic"/>
              </a:rPr>
              <a:t>Понимание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– во-первых, отражение в сознании партнеров по общению целей, мотивов, установок друг друга; во-вторых, принятие этих целей, позволяющее установить взаимоотношения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Межличностная перцепция.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Личное восприятие – получение и обработка одним субъектом общения информации о другом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На точность восприятия влияет множество характеристик субъектов восприят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Самовосприятие и обратная связь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Окно Джохари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987640" y="2637000"/>
            <a:ext cx="141912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I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427640" y="2637000"/>
            <a:ext cx="1368360" cy="14191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леп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2987640" y="4076640"/>
            <a:ext cx="141912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крыт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4427640" y="4076640"/>
            <a:ext cx="1368360" cy="136836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ая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зона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897"/>
                </a:solidFill>
                <a:latin typeface="Palatino Linotype"/>
              </a:rPr>
              <a:t>Неизвестная зона:</a:t>
            </a:r>
            <a:endParaRPr b="0" lang="en-US" sz="2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Дон Хуан сказал, что если лев не разорвет нас до того, как мы доберемся до вершины, то мы спасены. Он полез первый, показывая нам дорогу. Мы начали карабкаться в темноте. Не знаю, как, но я следовал за ним совершенно уверенными шагами. Когда мы были уже у вершины, я услышал особый крик животного. Он был похож немножко на мычание коровы, но длиннее и более грубый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– </a:t>
            </a: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Быстрее, быстрее наверх! – взревел дон Хуан. И я в кромешной тьме рванулся к вершине и оставил его далеко позади. Когда он достиг плоской вершины утеса, я уже сидел, переводя дыхание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Century Gothic"/>
              </a:rPr>
              <a:t>Он повалился на землю. На секунду я подумал, что это от напряжения, которое оказалось слишком велико для него, но катался по земле от  хохота над моим быстрым броском в гору.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Восприятие и роль социального стереотипа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как предметов, так и людей зависит не только от индивидуально-личностных, но и социокультурных факторов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Термин социальное восприятие ввел Д.Брунер, проведя большое количество экспериментов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незнакомых людей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осприятие незнакомых людей происходит на основе стереотипизации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роцесс социальной стереотипизации – образ другого строится на основе тех или иных типовых схе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Социальный стереотип – устойчивое представление о каких-либо явлениях или людях, свойственное представителям той или иной социальной группы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Факторы, способствующие ошибкам восприятия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евосходства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привлекательности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3f"/>
                </a:solidFill>
                <a:latin typeface="Century Gothic"/>
              </a:rPr>
              <a:t>Фактор отношения к на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Механизмы восприятия и понимания</a:t>
            </a:r>
            <a:r>
              <a:rPr b="0" lang="en-US" sz="4800" spc="-1" strike="noStrike">
                <a:solidFill>
                  <a:srgbClr val="2f5897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2f5897"/>
                </a:solidFill>
                <a:latin typeface="Palatino Linotype"/>
              </a:rPr>
              <a:t>знакомых людей: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В постоянном общении становится важным более глубокое и объективное понимание партнера – его актуального эмоционального состояния, намерений, отношения к нам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Психологические механизмы восприятия при межличностном общении: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Идентификац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Эмпатия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indent="357120">
              <a:spcBef>
                <a:spcPts val="601"/>
              </a:spcBef>
              <a:buClr>
                <a:srgbClr val="3f3f3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Рефлекси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Общая модель рефлекс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Д. Холмс показывает, что при общении двух субъектов наличествует не два, а шесть субъектов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           </a:t>
            </a:r>
            <a:r>
              <a:rPr b="0" lang="ru-RU" sz="2400" spc="-1" strike="noStrike">
                <a:solidFill>
                  <a:srgbClr val="3f3f3f"/>
                </a:solidFill>
                <a:latin typeface="Century Gothic"/>
              </a:rPr>
              <a:t>А – А1 – А2;                 Б – Б1 – Б2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2692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716360" y="4148280"/>
            <a:ext cx="3168720" cy="504720"/>
          </a:xfrm>
          <a:prstGeom prst="rect">
            <a:avLst/>
          </a:prstGeom>
          <a:solidFill>
            <a:srgbClr val="6076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                               А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1476360" y="436572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5435640" y="43657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носов Паве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29-06-1796 г. - 13-05-185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Выдающийся русский горный инженер, учёный-металлург, крупный организатор горнозаводской промышленности, исследователь природы Южного Урала, томский губернатор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гадал секрет булатной стали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8716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Александр Порфирьевич БОРОДИН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2.XI. 1833 - 27.II. 1887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Бородин Александр Порфирьевич - профессор химии и академик военно-медицинской академии, доктор медицины и композитор;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859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Попов Александр Степа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4-03-1859 г. - 31-12-1905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физик и электротехник, профессор, изобретатель радио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 радиоприемни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165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Чернов Дмитрий Константин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01-11-1839 г. - 02-01-1921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Установил, что при изменении температуры сталь меняет свои свойства и проходит полиморфические превращения. Чернов вычислил точки, известные сейчас как точки Чернова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1584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5897"/>
                </a:solidFill>
                <a:latin typeface="Palatino Linotype"/>
              </a:rPr>
              <a:t>РОССИЙСКИЕ И СОВЕТСКИЕ ИНЖЕНЕРЫ</a:t>
            </a:r>
            <a:endParaRPr b="0" lang="en-US" sz="36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.                                               Налётов Михаил Петрович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                                                        </a:t>
            </a: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(1869 г. - 30-03-1938 г.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азработал: Подводный минный заградитель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Краткое описание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95959"/>
                </a:solidFill>
                <a:latin typeface="Century Gothic"/>
              </a:rPr>
              <a:t>Русский изобретатель, создатель первого в мире подводного минного заградителя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98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11:07:55Z</dcterms:created>
  <dc:creator>Андрей</dc:creator>
  <dc:description/>
  <dc:language>en-US</dc:language>
  <cp:lastModifiedBy>Iren</cp:lastModifiedBy>
  <dcterms:modified xsi:type="dcterms:W3CDTF">2020-03-25T10:51:48Z</dcterms:modified>
  <cp:revision>38</cp:revision>
  <dc:subject/>
  <dc:title>ИМИДЖ И РЕПУТАЦИЯ РОССИЙСКОГО ИНЖЕНЕНРА</dc:title>
</cp:coreProperties>
</file>