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626-992E-47BB-BFE4-5D1E778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96E-2016-4BDD-80E7-8C898D9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D36-88F9-4557-A259-A3DEF844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C63-E341-4EA1-8316-DCB8BE9D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FC307-E76B-46AB-89FB-3996FA0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A1F51-86EE-4ABE-959E-C4F6CBED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EB3C0-2E80-41DA-B77E-A2C48D98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CF898-E33C-4CF5-AC45-55E1E88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8B9AB-348B-4338-AEA7-38EF50FB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38EB9-A1A8-48BE-84BE-3D047242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9E8A0-2D30-4E40-80C9-BD6F1C1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124-B851-4FA7-A7F8-CB3CB3C5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41E27-B0A0-4C89-B75B-47CD5CB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2A3FD-E33A-4E20-9079-F3B64C2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3C036-A820-4654-B94D-B55CA7A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7DB33-3D41-4361-AE2F-BCC8D804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3262-9220-480F-92AE-36B66FC3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4CC45-193B-45E9-96F3-D1BF9B89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9EB31-1B4B-428C-93BB-DCCF5A33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C537B-83A3-4757-BC5A-492B06C9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C204-15CE-4775-8E68-1CBED2D8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2519-1D15-44C2-8E23-0C13CE10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E08-E902-4899-9FFA-FDD49B74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7DA81-1BBC-44AE-8AB7-1295063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73083-3B1E-411C-80AC-5AD71C7D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6AC9D-1AA2-44E0-A9E3-A459C226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E0F8C-52C3-42FE-AE28-96379D67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CD7F-F553-4093-AA06-2D6659B8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D83F0-F28A-45F1-A078-F961F106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AD29-662C-47AC-8646-EAFE1FF3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546DB-B7D4-4745-A397-FF76F526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47B29B-CF85-4121-A432-391B4DB2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F3F152-B285-4B18-87CF-DFF5790A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C71-0F85-48EA-823A-76E0110A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BCF43-301E-4FF1-91CF-CCDF572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330945-5015-4436-A2C5-98666DD0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04EB4-6BD1-4C7B-A2F0-41B24102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F8FE1-1301-4492-9829-9FE8AF81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07586-E4D3-4F2C-8A23-8679C07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DF6159-6EEB-44A8-8AB6-C9F9D9D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21FDB-61BD-4DDE-B173-7D3B5C7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DB515F-FD44-4222-B1EF-85D22528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E413B-21CE-44F8-8923-B997806F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EF-713D-4072-AB11-4C129C4B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8356-56FE-4873-9B1B-09C0A638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4F7-AB45-49E2-AC3F-3627851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661-9629-46A0-8694-5D081DB5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63A-6489-4D5A-BA78-03CA48DC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F9C2-7028-4B7E-A1F0-33E1F21EF36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5BEC-CDC0-41D5-974E-4828FE5C655D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2F0-905D-40B7-AF0B-5EFAB6A1692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E4CA-5075-4ACE-BC4C-64A9EF80496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удовлетворенность условиями деятель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служебной этик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ушение трудового законодатель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аниченность рессурс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личия в целях, ценностях, воспитан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озависимость задач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Согласите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нападения (четкая аргументация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разубежд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отсроч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актика подробного анализа (если сторона готовы к сотрудничеству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Активного соучастия (если факт соучастия важнее чем результат)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Персонализации (с наиболее конфликтными личностями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именение конфликтогенов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ямое негатив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нисходительн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вастовств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нторское отнош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честность, неискр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ушения этических и этикетных нор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рессивное поведени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Конфликтная ситуация + инциден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С – объекты и субъекты конфликта + разногласия в позициях, целях, интересов и т.д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Трансакция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единица взаимодействия партнеров по общению, сопровождающаяся заданием их позици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Основные позици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одитель – требует, оценивает, осуждает, одобряет, руководит, учит…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зрослый – работает с информацией, анализирует, рассуждает, аргументирует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бенок (Дитя) – проявляет чувства (обиды, вины..), шалит, своенравен, извиняется в ответ на замечания, задает вопросы : «почему я?», «За что меня наказали?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Алгоритм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648320" y="1600200"/>
          <a:ext cx="4038480" cy="19000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4648320" y="4076640"/>
          <a:ext cx="4038480" cy="20494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Line 57"/>
          <p:cNvSpPr/>
          <p:nvPr/>
        </p:nvSpPr>
        <p:spPr>
          <a:xfrm flipV="1">
            <a:off x="5003640" y="2349360"/>
            <a:ext cx="3168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5076720" y="2492280"/>
            <a:ext cx="316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5003640" y="5734080"/>
            <a:ext cx="324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60"/>
          <p:cNvSpPr/>
          <p:nvPr/>
        </p:nvSpPr>
        <p:spPr>
          <a:xfrm flipH="1">
            <a:off x="5076360" y="4292640"/>
            <a:ext cx="3240360" cy="1297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900000" y="2998800"/>
          <a:ext cx="2303640" cy="316548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иц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ш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Line 93"/>
          <p:cNvSpPr/>
          <p:nvPr/>
        </p:nvSpPr>
        <p:spPr>
          <a:xfrm>
            <a:off x="1258920" y="393372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4"/>
          <p:cNvSpPr/>
          <p:nvPr/>
        </p:nvSpPr>
        <p:spPr>
          <a:xfrm flipH="1">
            <a:off x="1403280" y="3860640"/>
            <a:ext cx="1440000" cy="187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ленаправленное, обусловленное объективными законами воздействие на динамику в интересах развития или разрушения той социальной системы, к которой имеет отношение данны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ение конфликтами включает следующие виды деятель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0" name=""/>
          <p:cNvGraphicFramePr/>
          <p:nvPr/>
        </p:nvGraphicFramePr>
        <p:xfrm>
          <a:off x="457200" y="1197000"/>
          <a:ext cx="8229600" cy="5661000"/>
        </p:xfrm>
        <a:graphic>
          <a:graphicData uri="http://schemas.openxmlformats.org/drawingml/2006/table">
            <a:tbl>
              <a:tblPr/>
              <a:tblGrid>
                <a:gridCol w="442800"/>
                <a:gridCol w="2880000"/>
                <a:gridCol w="3097080"/>
                <a:gridCol w="18097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тап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держание управле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з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зникновение и разв.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нозирование, 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ьная – 92%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ознание КС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упрежд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- 46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чало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ъем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открытого К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улирова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ик- 5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вер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реш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пада -20%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решение – совместная деятельность  участников, направленная на прекращение противодействия и решение проблемы, приведшей к столкновени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егулирование – принимает участие третья сторо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тухание  - истощение ресурсов, потеря мотива, переориентация мотив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странение – ликвидация основных структурных элемент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растание в другой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4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тка Томаса-Килменн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274680" y="17604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4"/>
          <p:cNvSpPr/>
          <p:nvPr/>
        </p:nvSpPr>
        <p:spPr>
          <a:xfrm>
            <a:off x="250920" y="386064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кло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250920" y="1989000"/>
            <a:ext cx="2160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2700360" y="2852640"/>
            <a:ext cx="208764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роми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219640" y="386064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способ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8"/>
          <p:cNvSpPr/>
          <p:nvPr/>
        </p:nvSpPr>
        <p:spPr>
          <a:xfrm>
            <a:off x="5219640" y="1989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трудни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611280" y="5373720"/>
            <a:ext cx="7345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611280" y="5445000"/>
            <a:ext cx="244800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6012000" y="5445000"/>
            <a:ext cx="2305080" cy="914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мес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7956720" y="1916280"/>
            <a:ext cx="0" cy="3241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8028000" y="1557360"/>
            <a:ext cx="720720" cy="136692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66920"/>
              <a:gd name="textAreaBottom" fmla="*/ 1332000 h 1366920"/>
            </a:gdLst>
            <a:ahLst/>
            <a:rect l="textAreaLeft" t="textAreaTop" r="textAreaRight" b="textAreaBottom"/>
            <a:pathLst>
              <a:path w="21600" h="40957">
                <a:moveTo>
                  <a:pt x="3600" y="0"/>
                </a:moveTo>
                <a:arcTo wR="3600" hR="3600" stAng="16200000" swAng="-5400000"/>
                <a:lnTo>
                  <a:pt x="0" y="37357"/>
                </a:lnTo>
                <a:arcTo wR="3600" hR="3600" stAng="10800000" swAng="-5400000"/>
                <a:lnTo>
                  <a:pt x="18000" y="409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ив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8028000" y="3860640"/>
            <a:ext cx="720720" cy="134640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1346400"/>
              <a:gd name="textAreaBottom" fmla="*/ 1311480 h 1346400"/>
            </a:gdLst>
            <a:ahLst/>
            <a:rect l="textAreaLeft" t="textAreaTop" r="textAreaRight" b="textAreaBottom"/>
            <a:pathLst>
              <a:path w="21600" h="40342">
                <a:moveTo>
                  <a:pt x="3600" y="0"/>
                </a:moveTo>
                <a:arcTo wR="3600" hR="3600" stAng="16200000" swAng="-5400000"/>
                <a:lnTo>
                  <a:pt x="0" y="36742"/>
                </a:lnTo>
                <a:arcTo wR="3600" hR="3600" stAng="10800000" swAng="-5400000"/>
                <a:lnTo>
                  <a:pt x="18000" y="4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ссив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 ее помощью можно наметить стратегию, этапы и способы разрешения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блема конфликт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инная причина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Действительные участник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линные потребности и опасения сторон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жличностные отношения участников до конфликт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тношение к конфликту лиц, не участвующих, но заинтересованных в положительном его разрешени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гресс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жалобщ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разгневанный ребенок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аксималист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чу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тайный мст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ложный альтруист"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"хронический обвинитель"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55180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0" y="1197000"/>
          <a:ext cx="9123480" cy="5661000"/>
        </p:xfrm>
        <a:graphic>
          <a:graphicData uri="http://schemas.openxmlformats.org/drawingml/2006/table">
            <a:tbl>
              <a:tblPr/>
              <a:tblGrid>
                <a:gridCol w="3111480"/>
                <a:gridCol w="6012000"/>
              </a:tblGrid>
              <a:tr h="4348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ое содерж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квидация дефицита информации в конфликте; исключение из информационного поля ложной, искаженной информации; устранение слухов и т.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муникатив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общения между субъектами конфликтного взаимодействия и их сторонниками; обеспечение эффективного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о-психологическ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неформальными лидерами и микрогруппами, снижение социальной напряженности и укрепления социально-психологического климата в коллекти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шение кадровых вопросов; использование методов поощрения и наказания; изменение условий взаимодействия сотрудников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Заголовок 2" descr=""/>
          <p:cNvPicPr/>
          <p:nvPr/>
        </p:nvPicPr>
        <p:blipFill>
          <a:blip r:embed="rId1"/>
          <a:stretch/>
        </p:blipFill>
        <p:spPr>
          <a:xfrm>
            <a:off x="249120" y="-189000"/>
            <a:ext cx="8450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реальной практике по управлению конфликтами важно учитывать предпосылки, формы и способы их разрешения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достаточная зрелость конфликта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отребность субъектов конфликта в его разрешен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аличие необходимых средств и ресурсов для разрешения конфликт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6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6007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ничтожение или полное подчинение одной из сторон (уступка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ование интересов и позиций конфликтующих сторон на новой основе (компромисс, консенсус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заимное примирение конфликтующих сторон (уход)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вод борьбы в русло сотрудничества по совместному преодолению противоречий (сотрудничество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административный (увольнение, перевод на другую работу, решение суда и т. п.)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едагогический (беседа, убеждение, просьба, разъяснение и т. п.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горитм деятельности руководителя в процессе управления конфликтами зависит от многих факторов — содержания самого конфликта, условий его возникновения и развития и многих други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0" y="1974960"/>
          <a:ext cx="9144000" cy="4884480"/>
        </p:xfrm>
        <a:graphic>
          <a:graphicData uri="http://schemas.openxmlformats.org/drawingml/2006/table">
            <a:tbl>
              <a:tblPr/>
              <a:tblGrid>
                <a:gridCol w="858960"/>
                <a:gridCol w="3305160"/>
                <a:gridCol w="4979880"/>
              </a:tblGrid>
              <a:tr h="503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ятель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собы (методы) реа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чение причин возникновения конфлик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блюдение, анализ результатов деятельности; беседа; изучение документов; биографический метод, то есть изучение биографических данных участников конфликта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граничение числа участник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с лидерами в микрогруппах; перераспределение функциональных обязанностей; поощрение или наказание и т. п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полнительный анализ конфликта с помощью экспер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ос экспертов; привлечение медиатора, психолога, переговорный процесс (медиация) и д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нятие реш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е методы; педагогические метод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бъективные мотив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сторо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в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роцессе управленческой деятельности по разрешению конфликтов и в выборе алгоритма такой деятельности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для руководителя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учитывать следующие принципы управления конфликтам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ъективности и адекватности оценки конфликт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кретно-ситуационного подход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сности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мократического воздействия, опоры на общественное мнение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мплексного использования способов и приемов воздейств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1844640"/>
          <a:ext cx="9144000" cy="4822920"/>
        </p:xfrm>
        <a:graphic>
          <a:graphicData uri="http://schemas.openxmlformats.org/drawingml/2006/table">
            <a:tbl>
              <a:tblPr/>
              <a:tblGrid>
                <a:gridCol w="4908600"/>
                <a:gridCol w="4235400"/>
              </a:tblGrid>
              <a:tr h="39528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д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ностороннее суждение руководителя о подчиненных (как правило, только с точки зрения того, как они выполняют его указан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шает понять мотивы конфликтующих и оценить динамику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ресы руководителя в конфликте как члена коллектива и как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связанные с субъективной оценкой предмета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емление как можно быстрее погасить конфлик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часто приводящие к наказанию «правых» и «виноватых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жличностные отношения с конфликтующими (симпатии, антипатии дружба и т. п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очные решения, проявляющиеся в предвзятом отношении к одному из участников конфлик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Заголовок 2" descr=""/>
          <p:cNvPicPr/>
          <p:nvPr/>
        </p:nvPicPr>
        <p:blipFill>
          <a:blip r:embed="rId1"/>
          <a:stretch/>
        </p:blipFill>
        <p:spPr>
          <a:xfrm>
            <a:off x="274680" y="85680"/>
            <a:ext cx="84121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44600" y="3352680"/>
            <a:ext cx="8169120" cy="18097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fac9"/>
                </a:solidFill>
                <a:latin typeface="Constantia"/>
              </a:rPr>
              <a:t>Формулы конфлик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523520"/>
            <a:ext cx="85075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огенов (КФГ)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оген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слова, действия (или отсутствие действий), которые могут привести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КФГ2 &gt; КФГ1(, КФГ3&gt; КФГ2 и т. д. (Закон эскалации конфликтогенов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91320" cy="121932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4"/>
          <p:cNvSpPr/>
          <p:nvPr/>
        </p:nvSpPr>
        <p:spPr>
          <a:xfrm>
            <a:off x="826920" y="2781360"/>
            <a:ext cx="7345440" cy="934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КФГ1      КФГ2      КФГ3     …      К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Прямая со стрелкой 6"/>
          <p:cNvCxnSpPr/>
          <p:nvPr/>
        </p:nvCxnSpPr>
        <p:spPr>
          <a:xfrm>
            <a:off x="2195280" y="3249360"/>
            <a:ext cx="432360" cy="108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  <p:sp>
        <p:nvSpPr>
          <p:cNvPr id="254" name="Стрелка вправо 7"/>
          <p:cNvSpPr/>
          <p:nvPr/>
        </p:nvSpPr>
        <p:spPr>
          <a:xfrm>
            <a:off x="2268360" y="3176640"/>
            <a:ext cx="432000" cy="1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399564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5746680" y="3141720"/>
            <a:ext cx="480960" cy="20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6754680" y="3141720"/>
            <a:ext cx="4813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1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употребляйте конфликтоге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авило 2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Не отвечайте конфликтогеном на конфликтоген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 отметить, что по наблюдениям специалистов, 80 % конфликтов возникает помимо желания их участников и по вышеприведенной формул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Заголовок 2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конфликтной ситуации (КС) и инцидента (И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Конфликтная ситуация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накопившиеся противоречия, связанные с деятельностью субъектов социального взаимодействия и создающие почву для реального противоборства между ним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нцидент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— это стечение обстоятельств, являющихся поводом для конфликт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262080" y="152280"/>
            <a:ext cx="8424720" cy="1463760"/>
          </a:xfrm>
          <a:prstGeom prst="rect">
            <a:avLst/>
          </a:prstGeom>
          <a:ln w="0">
            <a:noFill/>
          </a:ln>
        </p:spPr>
      </p:pic>
      <p:sp>
        <p:nvSpPr>
          <p:cNvPr id="262" name="Скругленный прямоугольник 3"/>
          <p:cNvSpPr/>
          <p:nvPr/>
        </p:nvSpPr>
        <p:spPr>
          <a:xfrm>
            <a:off x="2268360" y="2781360"/>
            <a:ext cx="4391280" cy="7189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 + И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34920" y="692280"/>
          <a:ext cx="9109080" cy="6165720"/>
        </p:xfrm>
        <a:graphic>
          <a:graphicData uri="http://schemas.openxmlformats.org/drawingml/2006/table">
            <a:tbl>
              <a:tblPr/>
              <a:tblGrid>
                <a:gridCol w="4216320"/>
                <a:gridCol w="4892760"/>
              </a:tblGrid>
              <a:tr h="4539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арактер конфликт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я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бросовестное исполнение обязан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трудовой дисциплины Брак в рабо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довлетворительный стиль управ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шибки в подборе и расстановке кадров Ошибки в организации контроля Просчеты в планировании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84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адекватное представление о конкретных ситуаци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авильные оценки, суждения о действиях других субъектов социального взаимодействия Ошибки в выводах относительно конкретных ситуац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72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дивидуально-психологические особенности лич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рушение принятых в социальной группе правил взаимоотношений Нарушение этики об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изкая профессиональная подготов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к в работе Неспособность принять адекватное реш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Прямоугольник 7"/>
          <p:cNvSpPr/>
          <p:nvPr/>
        </p:nvSpPr>
        <p:spPr>
          <a:xfrm>
            <a:off x="2063880" y="8748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ипы конфликтных ситуа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ражает зависимость конфликта (КФ) от нескольких конфликтных ситуаций (КС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этом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&gt; 2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мма двух или более конфликтных ситуаций приводит к конфликт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4" descr=""/>
          <p:cNvPicPr/>
          <p:nvPr/>
        </p:nvPicPr>
        <p:blipFill>
          <a:blip r:embed="rId1"/>
          <a:stretch/>
        </p:blipFill>
        <p:spPr>
          <a:xfrm>
            <a:off x="262080" y="23760"/>
            <a:ext cx="8424720" cy="1347840"/>
          </a:xfrm>
          <a:prstGeom prst="rect">
            <a:avLst/>
          </a:prstGeom>
          <a:ln w="0">
            <a:noFill/>
          </a:ln>
        </p:spPr>
      </p:pic>
      <p:sp>
        <p:nvSpPr>
          <p:cNvPr id="267" name="Скругленный прямоугольник 6"/>
          <p:cNvSpPr/>
          <p:nvPr/>
        </p:nvSpPr>
        <p:spPr>
          <a:xfrm>
            <a:off x="1692360" y="2637000"/>
            <a:ext cx="5400720" cy="72072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КС1 + КС2 + ... + КС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= К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флик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это такое отношение между субъектами социального взаимодействия, которое характеризуется их противоборством на основе противоположно направленных мотивов (потребностей, интересов, целей, идеалов, убеждений) или суждений (мнений, взглядов, оценок и т. п.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составу участников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утри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личностны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ду личностью и групп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ежгруппов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о длительности и напряженност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урные быстротекущ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трые длитель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вял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лабовыраженные быстротекущ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225360" y="208080"/>
            <a:ext cx="846144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В зависимости от сферы проявлен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коном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де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емейно-бытов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4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социальных последстви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еструктивны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936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едме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еалистичные (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реалистичные (беспредметны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6.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От причи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стные причи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ричины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явления, события, факты, ситуации, которые предшествуют конфликту и, при определенных условиях деятельности субъектов социального взаимодействия, вызывают конфлик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38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экономические и полит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демограф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ци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ндивидуально-психологически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244440" y="171360"/>
            <a:ext cx="8442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07:37:26Z</dcterms:created>
  <dc:creator>User</dc:creator>
  <dc:description/>
  <dc:language>en-US</dc:language>
  <cp:lastModifiedBy>Iren</cp:lastModifiedBy>
  <dcterms:modified xsi:type="dcterms:W3CDTF">2020-04-09T10:58:29Z</dcterms:modified>
  <cp:revision>20</cp:revision>
  <dc:subject/>
  <dc:title>Конфликты и пути их разрешения.</dc:title>
</cp:coreProperties>
</file>